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75E9C-3925-463B-8C73-EA7719FFC8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8749F-D329-4705-9F5F-41154ECB59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7172-83F0-4F23-9E2D-8D0803ED6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0F04-A7D5-4F20-B1FC-CDB9D35D6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5D7A-BE8E-4C7B-A9F6-7D8742D24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9230-3184-474B-AE4C-C7F7030F8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47A1-EE09-4A8F-A7C7-E9F4B4F3D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1661-4785-460B-A066-78EA08B1F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45CA-25BD-4822-9E14-63034637E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4807-0F36-4AEA-A85F-D03803410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38E6-385B-4E88-99FA-67B87A40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2493-770F-4760-BF22-6136BB5A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3004-7C98-463F-BA0D-1ADEEA93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8E6D-8C8C-42AA-A469-0BE49A02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00227-56F5-46E3-8F31-5E7FD15CCAD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alibri"/>
              </a:rPr>
              <a:t>CONDITIONAL CLAU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II   Put the verb into correct form  (II and III conditional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 If I (know) the answer, I would help yo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  They (visit) you if they had had ti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  What would you do if someone (call) you a foo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  Which country you (choose) if you decided to live abroa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  Where you (go) if the door had been locke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  If the soup (be) hot, it would be very enjoyab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  If she had taken the medicine, she (feel) much bet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  If you (smell) smoke in the middle of the night, would you telephone the fire brigad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9  If people drove cars which can use lead-free petrol, there (not be) so much pollution in citi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 If the door had been larger, people (escape) more easil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2  Supposing you (miss) the train, what would you have done the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3  Even if there (be) more police on the streets it wouldn't prevent cri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IV Complete each unfinished sentence so that it means the same as the one before it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weather was bad, so the ship was delay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the weather hadn’t been bad, the ship would not have been delay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 The firm did not receive any compensation because the goods weren’t insur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the goods…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. The company did not send the shipment by rail, so the goods arrived la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goods wouldn’t…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. The shipment arrived late because the dockers were on strik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the dockers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. These problems arose because we did not use our normal forwarding agen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we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I For each of the sentences below, write a new sentence as similar as possible in meaning to the original sentence, but using the words given. These words must not be altered in any way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   Perhaps Sophie doesn't like her parents-in-law, but she keeps it to herself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ven if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   If you don't request next-day delivery, we will send the goods by normal first-class pos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nless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   Use a power breaker when you mow the lawn as you might cut the electric lea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 case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  We will only achieve the deadline if you provide all the resources we have request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ot  unles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6 You're welcome to bring Lucinda, but I don't want her to moan about her work all da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s long a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V Conditional sentences: All three type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ut the verbs in brackets into the correct tense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I (not buy) things on the installment system If I were yo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I (bring) you some beer if I had known that you were thirs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 If you go to Paris where you (stay)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 The flight may be cancelled if the fog (get) thic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. If the milkman (come) tell him to leave two bott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. Someone (sit) on your glasses if you leave them the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. You would play better bridge if you (not talk) so mu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. If you (read) the instructions carefully you wouldn’t have answered the wrong ques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9. If I had known that you couldn’t eat octopus I (not buy) i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.If they (hang) that picture lower people would be able to se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 Here are some lines from songs. Each line is a conditional. Match the two halves of the conditional sentence to make the complete line. Be careful - one of the conditionals is incorrect. Can you identify which on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. If I could read your mind, love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    would you marry me anyway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 If I had a hammer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     they probably will, in games without frontie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. If I need love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     we're gonna lose i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. If I ruled the world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     be sure to wear some flowers in your ha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. If I were a carpenter, and you were a lady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     every day would be the first day of spr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. If I were a rich man 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     what a tale your thoughts would tel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. If looks could kill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     I hold out my hand and I touch lov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. If you’re going to San Francisco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     I'd hammer out reas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9. If I can’t have you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     I wouldn't have to work har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. If we don’t try to save the love we got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      I don't want nobody, bab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898989"/>
                </a:solidFill>
                <a:latin typeface="Calibri"/>
              </a:rPr>
              <a:t>      </a:t>
            </a: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ZERO CONDITIONAL (always true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When we want to talk about things that are always and generally tru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898989"/>
                </a:solidFill>
                <a:latin typeface="Calibri"/>
              </a:rPr>
              <a:t>            </a:t>
            </a:r>
            <a:r>
              <a:rPr b="1" lang="sr-Latn-CS" sz="2400" spc="-1" strike="noStrike">
                <a:solidFill>
                  <a:srgbClr val="3333ff"/>
                </a:solidFill>
                <a:latin typeface="Calibri"/>
              </a:rPr>
              <a:t>If/When + present,  present tense</a:t>
            </a:r>
            <a:r>
              <a:rPr b="1" lang="en-GB" sz="2400" spc="-1" strike="noStrike">
                <a:solidFill>
                  <a:srgbClr val="3333ff"/>
                </a:solidFill>
                <a:latin typeface="Calibri"/>
              </a:rPr>
              <a:t> / can+inf /</a:t>
            </a:r>
            <a:r>
              <a:rPr b="1" lang="sr-Latn-CS" sz="2400" spc="-1" strike="noStrike">
                <a:solidFill>
                  <a:srgbClr val="3333ff"/>
                </a:solidFill>
                <a:latin typeface="Calibri"/>
              </a:rPr>
              <a:t> impera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                 </a:t>
            </a:r>
            <a:r>
              <a:rPr b="1" lang="en-US" sz="2400" spc="-1" strike="noStrike">
                <a:solidFill>
                  <a:srgbClr val="ff0066"/>
                </a:solidFill>
                <a:latin typeface="Calibri"/>
              </a:rPr>
              <a:t>(condition)                               (resul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e.g. </a:t>
            </a:r>
            <a:r>
              <a:rPr b="0" i="1" lang="sr-Latn-CS" sz="2000" spc="-1" strike="noStrike">
                <a:solidFill>
                  <a:srgbClr val="000000"/>
                </a:solidFill>
                <a:latin typeface="Calibri"/>
              </a:rPr>
              <a:t>When you </a:t>
            </a:r>
            <a:r>
              <a:rPr b="1" i="1" lang="sr-Latn-CS" sz="2000" spc="-1" strike="noStrike">
                <a:solidFill>
                  <a:srgbClr val="000000"/>
                </a:solidFill>
                <a:latin typeface="Calibri"/>
              </a:rPr>
              <a:t>fly</a:t>
            </a:r>
            <a:r>
              <a:rPr b="0" i="1" lang="sr-Latn-CS" sz="2000" spc="-1" strike="noStrike">
                <a:solidFill>
                  <a:srgbClr val="000000"/>
                </a:solidFill>
                <a:latin typeface="Calibri"/>
              </a:rPr>
              <a:t> business class, you </a:t>
            </a:r>
            <a:r>
              <a:rPr b="1" i="1" lang="sr-Latn-CS" sz="2000" spc="-1" strike="noStrike">
                <a:solidFill>
                  <a:srgbClr val="000000"/>
                </a:solidFill>
                <a:latin typeface="Calibri"/>
              </a:rPr>
              <a:t>get </a:t>
            </a:r>
            <a:r>
              <a:rPr b="0" i="1" lang="sr-Latn-CS" sz="2000" spc="-1" strike="noStrike">
                <a:solidFill>
                  <a:srgbClr val="000000"/>
                </a:solidFill>
                <a:latin typeface="Calibri"/>
              </a:rPr>
              <a:t>much more legroo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sr-Latn-CS" sz="2000" spc="-1" strike="noStrike">
                <a:solidFill>
                  <a:srgbClr val="000000"/>
                </a:solidFill>
                <a:latin typeface="Calibri"/>
              </a:rPr>
              <a:t>If interest rates </a:t>
            </a:r>
            <a:r>
              <a:rPr b="1" i="1" lang="sr-Latn-CS" sz="2000" spc="-1" strike="noStrike">
                <a:solidFill>
                  <a:srgbClr val="000000"/>
                </a:solidFill>
                <a:latin typeface="Calibri"/>
              </a:rPr>
              <a:t>are rising</a:t>
            </a:r>
            <a:r>
              <a:rPr b="0" i="1" lang="sr-Latn-CS" sz="2000" spc="-1" strike="noStrike">
                <a:solidFill>
                  <a:srgbClr val="000000"/>
                </a:solidFill>
                <a:latin typeface="Calibri"/>
              </a:rPr>
              <a:t>, bank loans </a:t>
            </a:r>
            <a:r>
              <a:rPr b="1" i="1" lang="sr-Latn-CS" sz="2000" spc="-1" strike="noStrike">
                <a:solidFill>
                  <a:srgbClr val="000000"/>
                </a:solidFill>
                <a:latin typeface="Calibri"/>
              </a:rPr>
              <a:t>become</a:t>
            </a:r>
            <a:r>
              <a:rPr b="0" i="1" lang="sr-Latn-CS" sz="2000" spc="-1" strike="noStrike">
                <a:solidFill>
                  <a:srgbClr val="000000"/>
                </a:solidFill>
                <a:latin typeface="Calibri"/>
              </a:rPr>
              <a:t> more expensiv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sr-Latn-CS" sz="2000" spc="-1" strike="noStrike">
                <a:solidFill>
                  <a:srgbClr val="000000"/>
                </a:solidFill>
                <a:latin typeface="Calibri"/>
              </a:rPr>
              <a:t>When you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’ve finished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the course, you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get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a certifica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e can use either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whe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en the meaning is ‘every time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indent="-1094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09440" indent="-1094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RST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CONDITIONAL (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ikely future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09440" indent="-1094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09440" indent="-109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When we want to talk abou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ture events that will happen, or are likely to happen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09440" indent="-1094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09440" indent="-109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2400" spc="-1" strike="noStrike">
                <a:solidFill>
                  <a:srgbClr val="3333ff"/>
                </a:solidFill>
                <a:latin typeface="Calibri"/>
              </a:rPr>
              <a:t>If + present,  </a:t>
            </a:r>
            <a:r>
              <a:rPr b="1" lang="en-US" sz="2400" spc="-1" strike="noStrike">
                <a:solidFill>
                  <a:srgbClr val="3333ff"/>
                </a:solidFill>
                <a:latin typeface="Calibri"/>
              </a:rPr>
              <a:t>future tense</a:t>
            </a:r>
            <a:r>
              <a:rPr b="1" lang="sr-Latn-CS" sz="2400" spc="-1" strike="noStrike">
                <a:solidFill>
                  <a:srgbClr val="3333ff"/>
                </a:solidFill>
                <a:latin typeface="Calibri"/>
              </a:rPr>
              <a:t> or imperati</a:t>
            </a:r>
            <a:r>
              <a:rPr b="1" lang="en-US" sz="2400" spc="-1" strike="noStrike">
                <a:solidFill>
                  <a:srgbClr val="3333ff"/>
                </a:solidFill>
                <a:latin typeface="Calibri"/>
              </a:rPr>
              <a:t>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09440" indent="-109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Calibri"/>
              </a:rPr>
              <a:t>                    </a:t>
            </a:r>
            <a:r>
              <a:rPr b="1" lang="en-US" sz="2400" spc="-1" strike="noStrike">
                <a:solidFill>
                  <a:srgbClr val="ff0066"/>
                </a:solidFill>
                <a:latin typeface="Calibri"/>
              </a:rPr>
              <a:t>(condition)                     (resul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09440" indent="-1094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09440" indent="-109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e.g.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f you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increas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your order, we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’ll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give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you a bigger discou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9440" indent="-109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sr-Latn-CS" sz="20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you’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re meeting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her at three,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I’ll join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you later at about fou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9440" indent="-109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f I’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ve made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any mistakes,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I’ll correct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m lat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9440" indent="-10944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9440" indent="-109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can also use other future for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09440" indent="-109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9440" indent="-109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e.g.  If you increase your order, you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’re going to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get a bigger discou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9440" indent="-109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f anyone from Head Office calls,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say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I am in a meet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760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COND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CONDITIONAL 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maginary future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When we want to talk abou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ture events that are imaginary, unlikely or impossible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sr-Latn-CS" sz="2200" spc="-1" strike="noStrike">
                <a:solidFill>
                  <a:srgbClr val="3333ff"/>
                </a:solidFill>
                <a:latin typeface="Calibri"/>
              </a:rPr>
              <a:t>If + p</a:t>
            </a:r>
            <a:r>
              <a:rPr b="1" lang="en-US" sz="2200" spc="-1" strike="noStrike">
                <a:solidFill>
                  <a:srgbClr val="3333ff"/>
                </a:solidFill>
                <a:latin typeface="Calibri"/>
              </a:rPr>
              <a:t>ast simple or continuous</a:t>
            </a:r>
            <a:r>
              <a:rPr b="1" lang="sr-Latn-CS" sz="2200" spc="-1" strike="noStrike">
                <a:solidFill>
                  <a:srgbClr val="3333ff"/>
                </a:solidFill>
                <a:latin typeface="Calibri"/>
              </a:rPr>
              <a:t>,  </a:t>
            </a:r>
            <a:r>
              <a:rPr b="1" lang="en-US" sz="2200" spc="-1" strike="noStrike">
                <a:solidFill>
                  <a:srgbClr val="3333ff"/>
                </a:solidFill>
                <a:latin typeface="Calibri"/>
              </a:rPr>
              <a:t>would/could/might + infinitiv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66"/>
                </a:solidFill>
                <a:latin typeface="Calibri"/>
              </a:rPr>
              <a:t>                 </a:t>
            </a:r>
            <a:r>
              <a:rPr b="1" lang="en-US" sz="2400" spc="-1" strike="noStrike">
                <a:solidFill>
                  <a:srgbClr val="ff0066"/>
                </a:solidFill>
                <a:latin typeface="Calibri"/>
              </a:rPr>
              <a:t>(condition)                                   (resul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e.g.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f you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wanted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a discount, you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would hav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o order at least 1000 uni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sr-Latn-CS" sz="20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you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were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still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speaking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after an hour, the audience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would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probably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 be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bor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COND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CONDITIONAL 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ossible past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When we want to talk abou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st events which possibly happe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1" lang="en-US" sz="2400" spc="-1" strike="noStrike">
                <a:solidFill>
                  <a:srgbClr val="3333ff"/>
                </a:solidFill>
                <a:latin typeface="Calibri"/>
              </a:rPr>
              <a:t>if+ past simple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400" spc="-1" strike="noStrike">
                <a:solidFill>
                  <a:srgbClr val="3333ff"/>
                </a:solidFill>
                <a:latin typeface="Calibri"/>
              </a:rPr>
              <a:t>any tense or mod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Calibri"/>
              </a:rPr>
              <a:t>     </a:t>
            </a:r>
            <a:r>
              <a:rPr b="1" lang="en-US" sz="2400" spc="-1" strike="noStrike">
                <a:solidFill>
                  <a:srgbClr val="ff0066"/>
                </a:solidFill>
                <a:latin typeface="Calibri"/>
              </a:rPr>
              <a:t>(condition)         (resul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 algn="ct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e.g. If you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went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to the meeting yesterday, you probably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heard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the new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f you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missed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the TV programme last night, you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can borrow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recording I  mad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5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5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440" indent="-55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5440" indent="-55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CONDITIONAL (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maginary past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5440" indent="-55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5440" indent="-55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When we want to talk abou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st events that are different to what really happen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5440" indent="-554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440" indent="-55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ff"/>
                </a:solidFill>
                <a:latin typeface="Calibri"/>
              </a:rPr>
              <a:t>            </a:t>
            </a:r>
            <a:r>
              <a:rPr b="1" lang="sr-Latn-CS" sz="2400" spc="-1" strike="noStrike">
                <a:solidFill>
                  <a:srgbClr val="3333ff"/>
                </a:solidFill>
                <a:latin typeface="Calibri"/>
              </a:rPr>
              <a:t>If + p</a:t>
            </a:r>
            <a:r>
              <a:rPr b="1" lang="en-US" sz="2400" spc="-1" strike="noStrike">
                <a:solidFill>
                  <a:srgbClr val="3333ff"/>
                </a:solidFill>
                <a:latin typeface="Calibri"/>
              </a:rPr>
              <a:t>ast perfect</a:t>
            </a:r>
            <a:r>
              <a:rPr b="1" lang="sr-Latn-CS" sz="2400" spc="-1" strike="noStrike">
                <a:solidFill>
                  <a:srgbClr val="3333ff"/>
                </a:solidFill>
                <a:latin typeface="Calibri"/>
              </a:rPr>
              <a:t>,  </a:t>
            </a:r>
            <a:r>
              <a:rPr b="1" lang="en-US" sz="2400" spc="-1" strike="noStrike">
                <a:solidFill>
                  <a:srgbClr val="3333ff"/>
                </a:solidFill>
                <a:latin typeface="Calibri"/>
              </a:rPr>
              <a:t>would + have + past particip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5440" indent="-55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Calibri"/>
              </a:rPr>
              <a:t>             </a:t>
            </a:r>
            <a:r>
              <a:rPr b="1" lang="en-US" sz="2400" spc="-1" strike="noStrike">
                <a:solidFill>
                  <a:srgbClr val="ff0066"/>
                </a:solidFill>
                <a:latin typeface="Calibri"/>
              </a:rPr>
              <a:t>(condition)                       (resul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5440" indent="-55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5440" indent="-55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e.g.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f the economic situation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had been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better, we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wouldn’t have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lost so many  custom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5440" indent="-55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5440" indent="-55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440" indent="-55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0" y="-36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DITIONALS WITHOUT I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can use </a:t>
            </a:r>
            <a:r>
              <a:rPr b="0" i="1" lang="en-US" sz="2400" spc="-1" strike="noStrike">
                <a:solidFill>
                  <a:srgbClr val="ff0066"/>
                </a:solidFill>
                <a:latin typeface="Calibri"/>
              </a:rPr>
              <a:t>provided that, providing, on condition that, as long as, so long a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The meaning is ‘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if and only if’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e.g. Providing/ provided that  that you clean your desk this evening you can have tomorrow off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can use </a:t>
            </a:r>
            <a:r>
              <a:rPr b="0" i="1" lang="en-US" sz="2400" spc="-1" strike="noStrike">
                <a:solidFill>
                  <a:srgbClr val="ff0066"/>
                </a:solidFill>
                <a:latin typeface="Calibri"/>
              </a:rPr>
              <a:t>in cas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o talk about doing something to avoid a possible problem la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e.g. I am going to give you my mobile number in case you need to contact m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66"/>
                </a:solidFill>
                <a:latin typeface="Calibri"/>
              </a:rPr>
              <a:t>Unles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ans the same 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If ….no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e.g. Unless he arrives soon, he will miss the start of the present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f he does not arrive soon, he will miss the start of the present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DITIONALS WITHOUT IF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0066"/>
                </a:solidFill>
                <a:latin typeface="Calibri"/>
              </a:rPr>
              <a:t>Supposing (that)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i="1" lang="en-GB" sz="2800" spc="-1" strike="noStrike">
                <a:solidFill>
                  <a:srgbClr val="ff0066"/>
                </a:solidFill>
                <a:latin typeface="Calibri"/>
              </a:rPr>
              <a:t>suppose (that)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ormally introduce ques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e.g. Suppose/ Supposing (that) we miss the train, wha shall we do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440" indent="-55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alibri"/>
              </a:rPr>
              <a:t>I Answer the questions with conditional sentenc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5440" indent="-55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5440" indent="-55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.g. What happens if you heat ice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If you heat ice, it mel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5440" indent="-55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b0f0"/>
                </a:solidFill>
                <a:latin typeface="Calibri"/>
              </a:rPr>
              <a:t>Note: </a:t>
            </a:r>
            <a:r>
              <a:rPr b="0" lang="en-US" sz="2400" spc="-1" strike="noStrike">
                <a:solidFill>
                  <a:srgbClr val="00b0f0"/>
                </a:solidFill>
                <a:latin typeface="Calibri"/>
              </a:rPr>
              <a:t>In this example, ‘</a:t>
            </a:r>
            <a:r>
              <a:rPr b="0" i="1" lang="en-US" sz="2400" spc="-1" strike="noStrike">
                <a:solidFill>
                  <a:srgbClr val="00b0f0"/>
                </a:solidFill>
                <a:latin typeface="Calibri"/>
              </a:rPr>
              <a:t>you’ </a:t>
            </a:r>
            <a:r>
              <a:rPr b="0" lang="en-US" sz="2400" spc="-1" strike="noStrike">
                <a:solidFill>
                  <a:srgbClr val="00b0f0"/>
                </a:solidFill>
                <a:latin typeface="Calibri"/>
              </a:rPr>
              <a:t>is equivalent to ‘</a:t>
            </a:r>
            <a:r>
              <a:rPr b="0" i="1" lang="en-US" sz="2400" spc="-1" strike="noStrike">
                <a:solidFill>
                  <a:srgbClr val="00b0f0"/>
                </a:solidFill>
                <a:latin typeface="Calibri"/>
              </a:rPr>
              <a:t>one’. </a:t>
            </a:r>
            <a:r>
              <a:rPr b="0" lang="en-US" sz="2400" spc="-1" strike="noStrike">
                <a:solidFill>
                  <a:srgbClr val="00b0f0"/>
                </a:solidFill>
                <a:latin typeface="Calibri"/>
              </a:rPr>
              <a:t>In the reply, therefore, we also use ‘</a:t>
            </a:r>
            <a:r>
              <a:rPr b="0" i="1" lang="en-US" sz="2400" spc="-1" strike="noStrike">
                <a:solidFill>
                  <a:srgbClr val="00b0f0"/>
                </a:solidFill>
                <a:latin typeface="Calibri"/>
              </a:rPr>
              <a:t>you’, </a:t>
            </a:r>
            <a:r>
              <a:rPr b="0" lang="en-US" sz="2400" spc="-1" strike="noStrike">
                <a:solidFill>
                  <a:srgbClr val="00b0f0"/>
                </a:solidFill>
                <a:latin typeface="Calibri"/>
              </a:rPr>
              <a:t>(not ‘I’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5440" indent="-55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  What must a motorist do if the traffic lights are at r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5440" indent="-55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   What materials do you need if you want to write a letter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5440" indent="-55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   What do you like to drink if you're very thirsty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5440" indent="-55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   What do you expect a teacher to do if you make a mistak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5440" indent="-55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  How do people dress in your country if they work in an offic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I      Put the verb into correct for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.g.  If he (come), everything will be all righ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he comes, everything will be all righ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    If I have any trouble with Peter, I (go) straight to the polic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   If you ask me out to dinner, I (accept) it with pleasu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   What I (say) if he rings up while you are ou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   If you open the letter you (see) what's writt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   If she (tell) me the truth, she will have nothing to fe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6   You (die) if you stay he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7   The police will help you if you (ask) the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8   If you (move) to London, you won't see your parents so oft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9   You will be responsible if something (happen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0   You'll see many interesting things if you (visit) the Tow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1    If I get a job, I (be able) to pay off my deb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2   If things (start) going downhill for me, I probably (sell) u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3   As long as you let me know what you would like to eat, I (do) the cook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4   You can go to the party provided you (not come) home do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5   If you build it, he (come)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1:28:05Z</dcterms:created>
  <dc:creator>http://eng.fon.rs</dc:creator>
  <dc:description/>
  <dc:language>en-US</dc:language>
  <cp:lastModifiedBy>Jelena Plecas</cp:lastModifiedBy>
  <dcterms:modified xsi:type="dcterms:W3CDTF">2009-04-01T09:53:20Z</dcterms:modified>
  <cp:revision>18</cp:revision>
  <dc:subject/>
  <dc:title>Slide 1</dc:title>
</cp:coreProperties>
</file>